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4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13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BF88-B3D6-4CD2-A2F7-3458745CD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367D-2577-4674-9C0B-6D5D19EBB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538C-8957-4A21-99B8-0EB5EBC64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29A8-BC5C-4F04-B73C-82307235A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5B7C-336D-4C0C-BC6C-0004DB3CB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09A3-2176-46D2-9FF3-A3D63F2AD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6BDC-9B75-4A9D-BE51-D09EAC87D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B152-F719-4070-A6D0-A25051B5C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072E-FD67-4E9A-B06B-07D0787AF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CAD8-82C5-4C45-94A7-B8A78C80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F226-E32C-4581-A7AB-C79F3108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03E9-5025-470E-BF8A-25333100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2270B-CB76-4019-8740-6188A6FB7BB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43280" y="260280"/>
            <a:ext cx="6192720" cy="313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624120"/>
                </a:solidFill>
                <a:latin typeface="Cambria"/>
              </a:rPr>
              <a:t>ЕВРОПСКЕ МОНАРХИЈЕ ПОЗНОГ СРЕДЊЕГ ВЕ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Ð ÐµÐ·ÑÐ»ÑÐ°Ñ ÑÐ»Ð¸ÐºÐ° Ð·Ð° kruna svetog rimskog carstva"/>
          <p:cNvPicPr/>
          <p:nvPr/>
        </p:nvPicPr>
        <p:blipFill>
          <a:blip r:embed="rId1"/>
          <a:stretch/>
        </p:blipFill>
        <p:spPr>
          <a:xfrm>
            <a:off x="539640" y="1668600"/>
            <a:ext cx="399888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"/>
          <p:cNvPicPr/>
          <p:nvPr/>
        </p:nvPicPr>
        <p:blipFill>
          <a:blip r:embed="rId1"/>
          <a:srcRect l="0" t="1680" r="0" b="0"/>
          <a:stretch/>
        </p:blipFill>
        <p:spPr>
          <a:xfrm>
            <a:off x="539640" y="2492280"/>
            <a:ext cx="8151840" cy="42102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6720" y="333000"/>
            <a:ext cx="822960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624120"/>
                </a:solidFill>
                <a:latin typeface="Cambria"/>
              </a:rPr>
              <a:t>ХРОНОЛОГИЈА РАТ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82440" y="1096920"/>
            <a:ext cx="8856720" cy="24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1095. ГОДИНЕ ПАПА УРБАН ЈЕ ОДРЖАО ЦРКВЕНИ САБОР У КЛЕРМОНУ НА КОЈЕМ ЈЕ ПОЗВАО ХРИШЋАНЕ ДА ПОЂУ У РАТ ЗА ОСЛОБОЂЕЊЕ ХРИСТОВОГ ГРОБ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82480" y="21564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624120"/>
                </a:solidFill>
                <a:latin typeface="Cambria"/>
              </a:rPr>
              <a:t>ТРЕЋИ КРСТАШКИ Р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2987640" y="4581360"/>
            <a:ext cx="5905440" cy="21654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358920" y="981000"/>
            <a:ext cx="86770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1099. ГОДИНЕ КРСТАШИ СУ ОСВОЈИЛИ ЈЕРУСАЛИМ. </a:t>
            </a:r>
            <a:r>
              <a:rPr b="1" lang="sr-RS" sz="2600" spc="-1" strike="noStrike">
                <a:solidFill>
                  <a:srgbClr val="624120"/>
                </a:solidFill>
                <a:latin typeface="Cambria"/>
              </a:rPr>
              <a:t>СУЛТАН САЛАДИН 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ГА ЈЕ 1187. ГОДИНЕ ПОНОВО ДОВЕО ПОД МУСЛИМАНСКУ ВЛАСТ.  ТО ЈЕ БИО ПОВОД ЗА ТРЕЋИ КРСТАШКИ РАТ (1189-1192). КРСТАШКУ ВОЈСКУ ПРЕДВОДЕ ЦАР</a:t>
            </a:r>
            <a:r>
              <a:rPr b="1" lang="sr-RS" sz="2600" spc="-1" strike="noStrike">
                <a:solidFill>
                  <a:srgbClr val="624120"/>
                </a:solidFill>
                <a:latin typeface="Cambria"/>
              </a:rPr>
              <a:t> ФРИДРИХ </a:t>
            </a:r>
            <a:r>
              <a:rPr b="1" lang="sr-Latn-RS" sz="2600" spc="-1" strike="noStrike">
                <a:solidFill>
                  <a:srgbClr val="624120"/>
                </a:solidFill>
                <a:latin typeface="Cambria"/>
              </a:rPr>
              <a:t>I </a:t>
            </a:r>
            <a:r>
              <a:rPr b="1" lang="sr-RS" sz="2600" spc="-1" strike="noStrike">
                <a:solidFill>
                  <a:srgbClr val="624120"/>
                </a:solidFill>
                <a:latin typeface="Cambria"/>
              </a:rPr>
              <a:t>БАРБАРОСА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, ФРАНЦУСКИ КРАЉ </a:t>
            </a:r>
            <a:r>
              <a:rPr b="1" lang="sr-RS" sz="2600" spc="-1" strike="noStrike">
                <a:solidFill>
                  <a:srgbClr val="624120"/>
                </a:solidFill>
                <a:latin typeface="Cambria"/>
              </a:rPr>
              <a:t>ФИЛИП </a:t>
            </a:r>
            <a:r>
              <a:rPr b="1" lang="sr-Latn-RS" sz="2600" spc="-1" strike="noStrike">
                <a:solidFill>
                  <a:srgbClr val="624120"/>
                </a:solidFill>
                <a:latin typeface="Cambria"/>
              </a:rPr>
              <a:t>II</a:t>
            </a:r>
            <a:r>
              <a:rPr b="1" lang="sr-RS" sz="2600" spc="-1" strike="noStrike">
                <a:solidFill>
                  <a:srgbClr val="624120"/>
                </a:solidFill>
                <a:latin typeface="Cambria"/>
              </a:rPr>
              <a:t> 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И ЕНГЛЕСКИ </a:t>
            </a:r>
            <a:r>
              <a:rPr b="1" lang="sr-RS" sz="2600" spc="-1" strike="noStrike">
                <a:solidFill>
                  <a:srgbClr val="624120"/>
                </a:solidFill>
                <a:latin typeface="Cambria"/>
              </a:rPr>
              <a:t>КРАЉ РИЧАРД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. ЦАР ФРИДРИХ СЕ УДАВИО НА ПУТУ ДО ЈЕРУСАЛИМА, ФИЛИП </a:t>
            </a:r>
            <a:r>
              <a:rPr b="0" lang="sr-Latn-RS" sz="2600" spc="-1" strike="noStrike">
                <a:solidFill>
                  <a:srgbClr val="624120"/>
                </a:solidFill>
                <a:latin typeface="Cambria"/>
              </a:rPr>
              <a:t>II 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ОДУСТАО ОД ПОХОДА А ЈЕДИНО ЈЕ КРАЉ РИЧАРД ПОКАЗАО ХРАБРОСТ ЗБОГ ЧЕГА ЈЕ И ДОБИО НАДИМАК </a:t>
            </a:r>
            <a:r>
              <a:rPr b="1" lang="sr-RS" sz="2600" spc="-1" strike="noStrike">
                <a:solidFill>
                  <a:srgbClr val="624120"/>
                </a:solidFill>
                <a:latin typeface="Cambria"/>
              </a:rPr>
              <a:t>ЛАВЉЕ СРЦЕ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6"/>
          <p:cNvSpPr/>
          <p:nvPr/>
        </p:nvSpPr>
        <p:spPr>
          <a:xfrm>
            <a:off x="179280" y="5372280"/>
            <a:ext cx="266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Cambria"/>
              </a:rPr>
              <a:t>ДВОБОЈ РИЧАРДА И САЛА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82120" y="215640"/>
            <a:ext cx="802188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624120"/>
                </a:solidFill>
                <a:latin typeface="Cambria"/>
              </a:rPr>
              <a:t>СТОГОДИШЊИ Р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4211640" y="981000"/>
            <a:ext cx="48243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СТОГОДИШЊИ РАТ ЈЕ НАЗИВ ЗА СЕРИЈУ РАТОВА КОЈИ СУ СА ПРЕКИДИМА ВОЂЕНИ </a:t>
            </a:r>
            <a:r>
              <a:rPr b="1" lang="sr-RS" sz="2600" spc="-1" strike="noStrike">
                <a:solidFill>
                  <a:srgbClr val="624120"/>
                </a:solidFill>
                <a:latin typeface="Cambria"/>
              </a:rPr>
              <a:t>ОД 1337. ДО 1453. ГОДИНЕ.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 УЗРОК ЈЕ БИЛА НАМЕРА ЕНГЛЕСКИХ КРАЉЕВА ДА ОСВОЈЕ ФРАНЦУСКУ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ФРАНЦУСКА ЈЕ ИЗ ОВОГ РАТА ИЗАШЛА КАО ПОБЕДНИК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НАЈЗНАЧАЈНИЈ</a:t>
            </a:r>
            <a:r>
              <a:rPr b="0" lang="sr-Latn-RS" sz="2600" spc="-1" strike="noStrike">
                <a:solidFill>
                  <a:srgbClr val="624120"/>
                </a:solidFill>
                <a:latin typeface="Cambria"/>
              </a:rPr>
              <a:t>A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 ЛИЧНОСТ ОВОГ РАТА И ФРАНЦУСКА НАЦИОНАЛНА ЈУНАКИЊА БИЛА ЈЕ </a:t>
            </a:r>
            <a:r>
              <a:rPr b="1" lang="sr-RS" sz="2600" spc="-1" strike="noStrike">
                <a:solidFill>
                  <a:srgbClr val="624120"/>
                </a:solidFill>
                <a:latin typeface="Cambria"/>
              </a:rPr>
              <a:t>ЈОВАНКА ОРЛЕАНКА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https://upload.wikimedia.org/wikipedia/commons/thumb/c/c3/Joan_of_Arc_miniature_graded.jpg/200px-Joan_of_Arc_miniature_graded.jpg"/>
          <p:cNvPicPr/>
          <p:nvPr/>
        </p:nvPicPr>
        <p:blipFill>
          <a:blip r:embed="rId1"/>
          <a:stretch/>
        </p:blipFill>
        <p:spPr>
          <a:xfrm>
            <a:off x="582480" y="1003320"/>
            <a:ext cx="3467160" cy="5234040"/>
          </a:xfrm>
          <a:prstGeom prst="rect">
            <a:avLst/>
          </a:prstGeom>
          <a:ln w="0">
            <a:noFill/>
          </a:ln>
        </p:spPr>
      </p:pic>
      <p:sp>
        <p:nvSpPr>
          <p:cNvPr id="82" name="TextBox 7"/>
          <p:cNvSpPr/>
          <p:nvPr/>
        </p:nvSpPr>
        <p:spPr>
          <a:xfrm>
            <a:off x="582480" y="6289560"/>
            <a:ext cx="346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Cambria"/>
              </a:rPr>
              <a:t>ЈОВАНКА ОРЛЕА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82120" y="215640"/>
            <a:ext cx="802188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624120"/>
                </a:solidFill>
                <a:latin typeface="Cambria"/>
              </a:rPr>
              <a:t>КИЈЕВСКА РУСИ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358920" y="981000"/>
            <a:ext cx="8677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ИСТОЧНОСЛОВЕНСКА ПЛЕМЕНА НАСЕЛИЛА СУ ТОКОМ РАНОГ СРЕДЊЕГ ВЕКА ПРОСТОР ИЗМЕЂУ БАЛТИЧКОГ И ЦРНОГ МОРА. ВЕЛИКИ УТИЦАЈ НА СЛОВЕНЕ ИМАЛИ СУ НОРМАНИ. НОРМАНСКИ КНЕЗ РЈУРИК СРЕДИНОМ </a:t>
            </a:r>
            <a:r>
              <a:rPr b="0" lang="sr-Latn-RS" sz="2600" spc="-1" strike="noStrike">
                <a:solidFill>
                  <a:srgbClr val="624120"/>
                </a:solidFill>
                <a:latin typeface="Cambria"/>
              </a:rPr>
              <a:t>IX 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ВЕКА УСТОЛИЧИО СЕ У НОВГОРОДУ КАО ВЛАДАР СЛОВЕНА. РЈУРИКОВИ ПОТОМЦИ ЗАВЛАДАЛИ СУ КРАЈЕМ </a:t>
            </a:r>
            <a:r>
              <a:rPr b="0" lang="sr-Latn-RS" sz="2600" spc="-1" strike="noStrike">
                <a:solidFill>
                  <a:srgbClr val="624120"/>
                </a:solidFill>
                <a:latin typeface="Cambria"/>
              </a:rPr>
              <a:t>IX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 ВЕКА КИЈЕВОМ И УЧИНИЛИ ГА ПРЕСТОНИЦОМ СВОЈЕ ДРЖАВЕ</a:t>
            </a:r>
            <a:r>
              <a:rPr b="0" lang="sr-Latn-RS" sz="2600" spc="-1" strike="noStrike">
                <a:solidFill>
                  <a:srgbClr val="624120"/>
                </a:solidFill>
                <a:latin typeface="Cambria"/>
              </a:rPr>
              <a:t> -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 КИЈЕВСКЕ РУСИЈ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КНЕЗ ВЛАДИМИР ЈЕ КРАЈЕМ </a:t>
            </a:r>
            <a:r>
              <a:rPr b="0" lang="sr-Latn-RS" sz="2600" spc="-1" strike="noStrike">
                <a:solidFill>
                  <a:srgbClr val="624120"/>
                </a:solidFill>
                <a:latin typeface="Cambria"/>
              </a:rPr>
              <a:t>X 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ВЕКА ПРИМИО ХРИШЋАНСТВ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СРЕДИНОМ </a:t>
            </a:r>
            <a:r>
              <a:rPr b="0" lang="sr-Latn-RS" sz="2600" spc="-1" strike="noStrike">
                <a:solidFill>
                  <a:srgbClr val="624120"/>
                </a:solidFill>
                <a:latin typeface="Cambria"/>
              </a:rPr>
              <a:t>XIII 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ВЕКА ОСЛАБЉЕНУ И ПОДЕЉЕНУ КИЈЕВСКУ РУСИЈУ ОСВОЈИЛИ СУ МОНГОЛ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280" y="404640"/>
            <a:ext cx="802188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624120"/>
                </a:solidFill>
                <a:latin typeface="Cambria"/>
              </a:rPr>
              <a:t>УГАРС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3505320" y="1170000"/>
            <a:ext cx="56386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ШИРЕЊЕ МАЂАРА У ЕВРОПИ ЗАУСТАВИО ЈЕ НЕМАЧКИ ЦАР ОТОН </a:t>
            </a:r>
            <a:r>
              <a:rPr b="0" lang="sr-Latn-RS" sz="2600" spc="-1" strike="noStrike">
                <a:solidFill>
                  <a:srgbClr val="624120"/>
                </a:solidFill>
                <a:latin typeface="Cambria"/>
              </a:rPr>
              <a:t>I,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 ПРИМОРАО ИХ ДА СЕ НАСЕЛЕ У ПАНОНСКОЈ НИЗИЈИ И ТУ ФОРМИРАЈУ ДРЖАВУ КОЈУ НАЗИВАМО УГАРСК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УГАРСКИ </a:t>
            </a:r>
            <a:r>
              <a:rPr b="1" lang="sr-RS" sz="2600" spc="-1" strike="noStrike">
                <a:solidFill>
                  <a:srgbClr val="624120"/>
                </a:solidFill>
                <a:latin typeface="Cambria"/>
              </a:rPr>
              <a:t>КРАЉ СТЕФАН 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1000. ГОДИНЕ ПРИМИО ЈЕ ХРИШЋАНСТВ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КРАЈЕМ </a:t>
            </a:r>
            <a:r>
              <a:rPr b="0" lang="sr-Latn-RS" sz="2600" spc="-1" strike="noStrike">
                <a:solidFill>
                  <a:srgbClr val="624120"/>
                </a:solidFill>
                <a:latin typeface="Cambria"/>
              </a:rPr>
              <a:t>XIII 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ВЕКА УГАРСКУ СУ ОПУСТОШИЛИ МОНГОЛИ А У </a:t>
            </a:r>
            <a:r>
              <a:rPr b="0" lang="sr-Latn-RS" sz="2600" spc="-1" strike="noStrike">
                <a:solidFill>
                  <a:srgbClr val="624120"/>
                </a:solidFill>
                <a:latin typeface="Cambria"/>
              </a:rPr>
              <a:t>XV 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ВЕКУ СУСРЕЛА СЕ СА НАЈЕЗДОМ ТУРАКА ОСМАНЛИЈ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Ð¡ÑÐ¾Ð´Ð½Ð° ÑÐ»Ð¸ÐºÐ°"/>
          <p:cNvPicPr/>
          <p:nvPr/>
        </p:nvPicPr>
        <p:blipFill>
          <a:blip r:embed="rId1"/>
          <a:stretch/>
        </p:blipFill>
        <p:spPr>
          <a:xfrm>
            <a:off x="179280" y="1341360"/>
            <a:ext cx="3197160" cy="4535640"/>
          </a:xfrm>
          <a:prstGeom prst="rect">
            <a:avLst/>
          </a:prstGeom>
          <a:ln w="0">
            <a:noFill/>
          </a:ln>
        </p:spPr>
      </p:pic>
      <p:sp>
        <p:nvSpPr>
          <p:cNvPr id="88" name="TextBox 6"/>
          <p:cNvSpPr/>
          <p:nvPr/>
        </p:nvSpPr>
        <p:spPr>
          <a:xfrm>
            <a:off x="160200" y="6048360"/>
            <a:ext cx="34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Cambria"/>
              </a:rPr>
              <a:t>УГАРСКИ КРАЉ СТЕФАН (ИШТВА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624120"/>
                </a:solidFill>
                <a:latin typeface="Cambria"/>
              </a:rPr>
              <a:t>МОНАРХИЈЕ И РЕПУБЛ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624120"/>
                </a:solidFill>
                <a:latin typeface="Cambria"/>
              </a:rPr>
              <a:t>У ПОЗНОМ СРЕДЊЕМ ВЕКУ ПОСТОЈАЛА СУ ДВА ОСНОВНА ТИПА ДРЖАВНОГ УРЕЂЕЊ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624120"/>
                </a:solidFill>
                <a:latin typeface="Cambria"/>
              </a:rPr>
              <a:t>1. </a:t>
            </a:r>
            <a:r>
              <a:rPr b="1" lang="sr-RS" sz="2800" spc="-1" strike="noStrike">
                <a:solidFill>
                  <a:srgbClr val="c00000"/>
                </a:solidFill>
                <a:latin typeface="Cambria"/>
              </a:rPr>
              <a:t>РЕПУБЛИКЕ</a:t>
            </a:r>
            <a:r>
              <a:rPr b="0" lang="sr-RS" sz="2800" spc="-1" strike="noStrike">
                <a:solidFill>
                  <a:srgbClr val="624120"/>
                </a:solidFill>
                <a:latin typeface="Cambria"/>
              </a:rPr>
              <a:t> – ДРЖАВЕ У КОЈИМА СЕ ОРГАНИ ВЛАСТИ БИРАЈУ НА ОДРЕЂЕНО ВРЕ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 u="sng">
                <a:solidFill>
                  <a:srgbClr val="624120"/>
                </a:solidFill>
                <a:uFillTx/>
                <a:latin typeface="Cambria"/>
              </a:rPr>
              <a:t>У СРЕДЊЕМ ВЕКУ</a:t>
            </a:r>
            <a:r>
              <a:rPr b="0" lang="sr-RS" sz="2800" spc="-1" strike="noStrike">
                <a:solidFill>
                  <a:srgbClr val="624120"/>
                </a:solidFill>
                <a:latin typeface="Cambria"/>
              </a:rPr>
              <a:t>: ВЕНЕЦИЈА, ФИРЕНЦА, ЂЕНОВА, ДУБРОВ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 u="sng">
                <a:solidFill>
                  <a:srgbClr val="624120"/>
                </a:solidFill>
                <a:uFillTx/>
                <a:latin typeface="Cambria"/>
              </a:rPr>
              <a:t>ДАНАС</a:t>
            </a:r>
            <a:r>
              <a:rPr b="0" lang="sr-RS" sz="2800" spc="-1" strike="noStrike">
                <a:solidFill>
                  <a:srgbClr val="624120"/>
                </a:solidFill>
                <a:latin typeface="Cambria"/>
              </a:rPr>
              <a:t>: ФРАНЦУСКА, НЕМАЧКА, САД, СРБИЈА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624120"/>
                </a:solidFill>
                <a:latin typeface="Cambria"/>
              </a:rPr>
              <a:t>2. </a:t>
            </a:r>
            <a:r>
              <a:rPr b="1" lang="sr-RS" sz="2800" spc="-1" strike="noStrike">
                <a:solidFill>
                  <a:srgbClr val="c00000"/>
                </a:solidFill>
                <a:latin typeface="Cambria"/>
              </a:rPr>
              <a:t>МОНАРХИЈЕ</a:t>
            </a:r>
            <a:r>
              <a:rPr b="0" lang="sr-RS" sz="2800" spc="-1" strike="noStrike">
                <a:solidFill>
                  <a:srgbClr val="624120"/>
                </a:solidFill>
                <a:latin typeface="Cambria"/>
              </a:rPr>
              <a:t> – ДРЖАВЕ У КОЈИМА ВЛАСТ ИМА ЈЕДНА ЛИЧНОСТ (ЦАР, КРАЉ ИЛИ КНЕЗ) А НА ПРЕСТО ДОЛАЗИ НАСЛЕДНИМ ПУТ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457200" y="404640"/>
            <a:ext cx="82296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624120"/>
                </a:solidFill>
                <a:latin typeface="Cambria"/>
              </a:rPr>
              <a:t>СВЕТО РИМСКО ЦАР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4572000" y="1170000"/>
            <a:ext cx="457200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ПОСЛЕ РАСПАДА ФРАНАЧКОГ ЦАРСТВА ОД ЊЕНОГ ИСТОЧНОГ ДЕЛА ФОРМИРАЛА СЕ У </a:t>
            </a:r>
            <a:r>
              <a:rPr b="0" lang="sr-Latn-RS" sz="2600" spc="-1" strike="noStrike">
                <a:solidFill>
                  <a:srgbClr val="624120"/>
                </a:solidFill>
                <a:latin typeface="Cambria"/>
              </a:rPr>
              <a:t>X 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ВЕКУ </a:t>
            </a:r>
            <a:r>
              <a:rPr b="1" lang="sr-RS" sz="2600" spc="-1" strike="noStrike">
                <a:solidFill>
                  <a:srgbClr val="624120"/>
                </a:solidFill>
                <a:latin typeface="Cambria"/>
              </a:rPr>
              <a:t>НЕМАЧКА ДРЖАВА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КРАЉ </a:t>
            </a:r>
            <a:r>
              <a:rPr b="1" lang="sr-RS" sz="2600" spc="-1" strike="noStrike">
                <a:solidFill>
                  <a:srgbClr val="624120"/>
                </a:solidFill>
                <a:latin typeface="Cambria"/>
              </a:rPr>
              <a:t>ОТОН </a:t>
            </a:r>
            <a:r>
              <a:rPr b="1" lang="sr-Latn-RS" sz="2600" spc="-1" strike="noStrike">
                <a:solidFill>
                  <a:srgbClr val="624120"/>
                </a:solidFill>
                <a:latin typeface="Cambria"/>
              </a:rPr>
              <a:t>I</a:t>
            </a:r>
            <a:r>
              <a:rPr b="0" lang="sr-Latn-RS" sz="2600" spc="-1" strike="noStrike">
                <a:solidFill>
                  <a:srgbClr val="624120"/>
                </a:solidFill>
                <a:latin typeface="Cambria"/>
              </a:rPr>
              <a:t> 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 962. ГОДИНЕ ОД ПАПЕ ДОБИЈА ЦАРСКУ КРУНУ А ДРЖАВА ЈЕ ВРЕМЕНОМ НАЗВАНА СВЕТО РИМСКО ЦАРСТВ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174600" y="1328760"/>
            <a:ext cx="4253040" cy="3182760"/>
          </a:xfrm>
          <a:prstGeom prst="rect">
            <a:avLst/>
          </a:prstGeom>
          <a:ln w="0">
            <a:noFill/>
          </a:ln>
        </p:spPr>
      </p:pic>
      <p:sp>
        <p:nvSpPr>
          <p:cNvPr id="48" name="TextBox 6"/>
          <p:cNvSpPr/>
          <p:nvPr/>
        </p:nvSpPr>
        <p:spPr>
          <a:xfrm>
            <a:off x="250920" y="4670280"/>
            <a:ext cx="417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Cambria"/>
              </a:rPr>
              <a:t>ОТОН</a:t>
            </a:r>
            <a:r>
              <a:rPr b="1" lang="sr-Latn-RS" sz="1600" spc="-1" strike="noStrike">
                <a:solidFill>
                  <a:srgbClr val="000000"/>
                </a:solidFill>
                <a:latin typeface="Cambria"/>
              </a:rPr>
              <a:t> I</a:t>
            </a:r>
            <a:r>
              <a:rPr b="1" lang="sr-RS" sz="1600" spc="-1" strike="noStrike">
                <a:solidFill>
                  <a:srgbClr val="000000"/>
                </a:solidFill>
                <a:latin typeface="Cambria"/>
              </a:rPr>
              <a:t> , ЦАР СВЕТОГ РИМСКОГ ЦАР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7"/>
          <p:cNvSpPr/>
          <p:nvPr/>
        </p:nvSpPr>
        <p:spPr>
          <a:xfrm>
            <a:off x="174600" y="54738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624120"/>
                </a:solidFill>
                <a:latin typeface="Cambria"/>
              </a:rPr>
              <a:t>ДРЖАВА НИЈЕ БИЛА ЈЕДИНСТВЕНА. ЦАР </a:t>
            </a:r>
            <a:r>
              <a:rPr b="1" lang="sr-RS" sz="2800" spc="-1" strike="noStrike">
                <a:solidFill>
                  <a:srgbClr val="624120"/>
                </a:solidFill>
                <a:latin typeface="Cambria"/>
              </a:rPr>
              <a:t>ФРИДРИХ</a:t>
            </a:r>
            <a:r>
              <a:rPr b="1" lang="sr-Latn-RS" sz="2800" spc="-1" strike="noStrike">
                <a:solidFill>
                  <a:srgbClr val="624120"/>
                </a:solidFill>
                <a:latin typeface="Cambria"/>
              </a:rPr>
              <a:t> I</a:t>
            </a:r>
            <a:r>
              <a:rPr b="1" lang="sr-RS" sz="2800" spc="-1" strike="noStrike">
                <a:solidFill>
                  <a:srgbClr val="624120"/>
                </a:solidFill>
                <a:latin typeface="Cambria"/>
              </a:rPr>
              <a:t> БАРБАРОСА </a:t>
            </a:r>
            <a:r>
              <a:rPr b="1" lang="sr-Latn-RS" sz="2800" spc="-1" strike="noStrike">
                <a:solidFill>
                  <a:srgbClr val="624120"/>
                </a:solidFill>
                <a:latin typeface="Cambria"/>
              </a:rPr>
              <a:t>(1152-1190) </a:t>
            </a:r>
            <a:r>
              <a:rPr b="0" lang="sr-RS" sz="2800" spc="-1" strike="noStrike">
                <a:solidFill>
                  <a:srgbClr val="624120"/>
                </a:solidFill>
                <a:latin typeface="Cambria"/>
              </a:rPr>
              <a:t>УСПЕО ЈЕ НА КРАТКО ДА ЈЕ ПОНОВО УЈЕДИНИ</a:t>
            </a:r>
            <a:r>
              <a:rPr b="0" lang="sr-RS" sz="18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624120"/>
                </a:solidFill>
                <a:latin typeface="Cambria"/>
              </a:rPr>
              <a:t>БОРБА ЗА ИНВЕСТИТУР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https://upload.wikimedia.org/wikipedia/commons/thumb/1/11/Investiturewoodcut.jpg/800px-Investiturewoodcut.jpg"/>
          <p:cNvPicPr/>
          <p:nvPr/>
        </p:nvPicPr>
        <p:blipFill>
          <a:blip r:embed="rId1"/>
          <a:srcRect l="7265" t="0" r="7620" b="0"/>
          <a:stretch/>
        </p:blipFill>
        <p:spPr>
          <a:xfrm>
            <a:off x="395280" y="1484280"/>
            <a:ext cx="3384720" cy="45514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"/>
          <p:cNvSpPr/>
          <p:nvPr/>
        </p:nvSpPr>
        <p:spPr>
          <a:xfrm>
            <a:off x="4140360" y="1484280"/>
            <a:ext cx="4773600" cy="455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624120"/>
                </a:solidFill>
                <a:latin typeface="Cambria"/>
              </a:rPr>
              <a:t>ТОКОМ СРЕДЊЕГ ВЕКА ПАПЕ И ЦАРЕВИ СУ ЧЕСТО БИЛИ У СУКОБУ. НАЈВАЖНИЈИ СПОР ЈЕ БИО ОКО ТОГА КОМЕ ПРИПАДА </a:t>
            </a:r>
            <a:r>
              <a:rPr b="1" lang="sr-RS" sz="2800" spc="-1" strike="noStrike">
                <a:solidFill>
                  <a:srgbClr val="624120"/>
                </a:solidFill>
                <a:latin typeface="Cambria"/>
              </a:rPr>
              <a:t>ПРАВО ПОСТАВЉАЊА БИСКУПА</a:t>
            </a:r>
            <a:r>
              <a:rPr b="0" lang="sr-RS" sz="2800" spc="-1" strike="noStrike">
                <a:solidFill>
                  <a:srgbClr val="624120"/>
                </a:solidFill>
                <a:latin typeface="Cambr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624120"/>
                </a:solidFill>
                <a:latin typeface="Cambria"/>
              </a:rPr>
              <a:t>СУКОБ ОКО ОВОГ ПИТАЊА НАЗИВА СЕ </a:t>
            </a:r>
            <a:r>
              <a:rPr b="1" lang="sr-RS" sz="2800" spc="-1" strike="noStrike">
                <a:solidFill>
                  <a:srgbClr val="624120"/>
                </a:solidFill>
                <a:latin typeface="Cambria"/>
              </a:rPr>
              <a:t>БОРБА ЗА ИНВЕСТИТУ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1"/>
          <p:cNvSpPr/>
          <p:nvPr/>
        </p:nvSpPr>
        <p:spPr>
          <a:xfrm>
            <a:off x="395280" y="6107040"/>
            <a:ext cx="338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Cambria"/>
              </a:rPr>
              <a:t>СРЕДЊОВЕКОВНИ КРАЉ ПРЕДАЈЕ ВЛАСТ БИСКУП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624120"/>
                </a:solidFill>
                <a:latin typeface="Cambria"/>
              </a:rPr>
              <a:t>ЦАР НА КОЛЕНИ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262080" y="5373720"/>
            <a:ext cx="8496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624120"/>
                </a:solidFill>
                <a:latin typeface="Cambria"/>
              </a:rPr>
              <a:t>ТРИ ДАНА ЈЕ ОДЕВЕН У МОНАШКУ ХАЉИНУ И БОСИХ НОГУ ЧЕКАО ИСПРЕД ЗАМКА ДА ГА ПАПА ПРИМИ И ПОВУЧЕ ИЗОПШТЕЊ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https://upload.wikimedia.org/wikipedia/commons/thumb/1/1b/Canossa-three.jpg/350px-Canossa-three.jpg"/>
          <p:cNvPicPr/>
          <p:nvPr/>
        </p:nvPicPr>
        <p:blipFill>
          <a:blip r:embed="rId1"/>
          <a:stretch/>
        </p:blipFill>
        <p:spPr>
          <a:xfrm>
            <a:off x="262080" y="1716120"/>
            <a:ext cx="4248000" cy="3046320"/>
          </a:xfrm>
          <a:prstGeom prst="rect">
            <a:avLst/>
          </a:prstGeom>
          <a:ln w="0">
            <a:noFill/>
          </a:ln>
        </p:spPr>
      </p:pic>
      <p:sp>
        <p:nvSpPr>
          <p:cNvPr id="57" name="TextBox 6"/>
          <p:cNvSpPr/>
          <p:nvPr/>
        </p:nvSpPr>
        <p:spPr>
          <a:xfrm>
            <a:off x="4643280" y="1623960"/>
            <a:ext cx="4356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624120"/>
                </a:solidFill>
                <a:latin typeface="Cambria"/>
              </a:rPr>
              <a:t>БОРБА ЗА ИНВЕСТИТУРУ ДОСТИГЛА ЈЕ ВРХУНАЦ КАДА ЈЕ ПАПА </a:t>
            </a:r>
            <a:r>
              <a:rPr b="1" lang="sr-RS" sz="2800" spc="-1" strike="noStrike">
                <a:solidFill>
                  <a:srgbClr val="624120"/>
                </a:solidFill>
                <a:latin typeface="Cambria"/>
              </a:rPr>
              <a:t>ГРГУР </a:t>
            </a:r>
            <a:r>
              <a:rPr b="1" lang="sr-Latn-RS" sz="2800" spc="-1" strike="noStrike">
                <a:solidFill>
                  <a:srgbClr val="624120"/>
                </a:solidFill>
                <a:latin typeface="Cambria"/>
              </a:rPr>
              <a:t>VII </a:t>
            </a:r>
            <a:r>
              <a:rPr b="0" lang="sr-RS" sz="2800" spc="-1" strike="noStrike">
                <a:solidFill>
                  <a:srgbClr val="624120"/>
                </a:solidFill>
                <a:latin typeface="Cambria"/>
              </a:rPr>
              <a:t>ИЗОПШТИО ИЗ ЦРКВЕ ЦАРА </a:t>
            </a:r>
            <a:r>
              <a:rPr b="1" lang="sr-RS" sz="2800" spc="-1" strike="noStrike">
                <a:solidFill>
                  <a:srgbClr val="624120"/>
                </a:solidFill>
                <a:latin typeface="Cambria"/>
              </a:rPr>
              <a:t>ХЕНРИХА</a:t>
            </a:r>
            <a:r>
              <a:rPr b="1" lang="sr-Latn-RS" sz="2800" spc="-1" strike="noStrike">
                <a:solidFill>
                  <a:srgbClr val="624120"/>
                </a:solidFill>
                <a:latin typeface="Cambria"/>
              </a:rPr>
              <a:t> IV</a:t>
            </a:r>
            <a:r>
              <a:rPr b="0" lang="sr-RS" sz="2800" spc="-1" strike="noStrike">
                <a:solidFill>
                  <a:srgbClr val="624120"/>
                </a:solidFill>
                <a:latin typeface="Cambria"/>
              </a:rPr>
              <a:t>. ЦАР ЈЕ МОРАО 1077. ГОДИНЕ ДА ОДЕ НА </a:t>
            </a:r>
            <a:r>
              <a:rPr b="1" lang="sr-RS" sz="2800" spc="-1" strike="noStrike">
                <a:solidFill>
                  <a:srgbClr val="624120"/>
                </a:solidFill>
                <a:latin typeface="Cambria"/>
              </a:rPr>
              <a:t>ПОКАЈАЊЕ У КАНОСУ</a:t>
            </a:r>
            <a:r>
              <a:rPr b="0" lang="sr-RS" sz="2800" spc="-1" strike="noStrike">
                <a:solidFill>
                  <a:srgbClr val="624120"/>
                </a:solidFill>
                <a:latin typeface="Cambr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8"/>
          <p:cNvSpPr/>
          <p:nvPr/>
        </p:nvSpPr>
        <p:spPr>
          <a:xfrm>
            <a:off x="228600" y="4789440"/>
            <a:ext cx="4281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ХЕНРИК IV И ГРГУР VII У КАНОСИ, СЛИКА КАРЛА ЕМАНУЕ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28480" y="287280"/>
            <a:ext cx="822960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624120"/>
                </a:solidFill>
                <a:latin typeface="Cambria"/>
              </a:rPr>
              <a:t>ФРАНЦУСКА И ЕНГЛЕС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395280" y="1189080"/>
            <a:ext cx="849780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ФРАНЦУСКА ЈЕ НАСТАЛА ОД ЗАПАДНИХ ДЕЛОВА ФРАНАЧКОГ ЦАРСТВА. КРАЈЕМ </a:t>
            </a:r>
            <a:r>
              <a:rPr b="0" lang="sr-Latn-RS" sz="2600" spc="-1" strike="noStrike">
                <a:solidFill>
                  <a:srgbClr val="624120"/>
                </a:solidFill>
                <a:latin typeface="Cambria"/>
              </a:rPr>
              <a:t>X 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ВЕКА ЊОМ ЈЕ ЗАВАЛАДАЛА </a:t>
            </a:r>
            <a:r>
              <a:rPr b="1" lang="sr-RS" sz="2600" spc="-1" strike="noStrike">
                <a:solidFill>
                  <a:srgbClr val="624120"/>
                </a:solidFill>
                <a:latin typeface="Cambria"/>
              </a:rPr>
              <a:t>ДИНАСТИЈА КАПЕТА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. ПОЛОЖАЈ КРАЉА БИО ЈЕ ТЕЖАК. ВЛАСТ У ЗЕМЉИ ИМАЛИ СУ КРУПНИ ФЕУДАЛЦИ. ВОЈВОДА НОРМАНДИЈЕ ВИЉЕМ ОСВАЈАЧ ПОБЕДИО ЈЕ ЕНГЛЕСКОГ КРАЉА У </a:t>
            </a:r>
            <a:r>
              <a:rPr b="1" lang="sr-RS" sz="2600" spc="-1" strike="noStrike">
                <a:solidFill>
                  <a:srgbClr val="624120"/>
                </a:solidFill>
                <a:latin typeface="Cambria"/>
              </a:rPr>
              <a:t>БИЦИ КОД ХЕЈСТИНГСА 1066. ГОДИНЕ 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И ЗАВЛАДАО ЕНГЛЕСКО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ÐÐ¸ÑÐºÐ° ÐºÐ¾Ð´ Ð¥ÐµÑÑÑÐ¸Ð½Ð³ÑÐ° 1066. Ð³Ð¾Ð´Ð¸Ð½Ð°, Ð´ÐµÑÐ°Ñ ÑÐ° Ð¢Ð°Ð¿Ð¸ÑÐµÑÐ¸ÑÐµ Ð¸Ð· ÐÐ°ÑÐµÐ° "/>
          <p:cNvPicPr/>
          <p:nvPr/>
        </p:nvPicPr>
        <p:blipFill>
          <a:blip r:embed="rId1"/>
          <a:stretch/>
        </p:blipFill>
        <p:spPr>
          <a:xfrm>
            <a:off x="395280" y="4149720"/>
            <a:ext cx="5038560" cy="2552760"/>
          </a:xfrm>
          <a:prstGeom prst="rect">
            <a:avLst/>
          </a:prstGeom>
          <a:ln w="0">
            <a:noFill/>
          </a:ln>
        </p:spPr>
      </p:pic>
      <p:sp>
        <p:nvSpPr>
          <p:cNvPr id="62" name="TextBox 6"/>
          <p:cNvSpPr/>
          <p:nvPr/>
        </p:nvSpPr>
        <p:spPr>
          <a:xfrm>
            <a:off x="5433840" y="5870520"/>
            <a:ext cx="3459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БИТКА КОД ХЕЈСТИНГСА 1066. ГОДИНА, ДЕТАЉ СА ТАПИСЕРИЈЕ ИЗ БАЈ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Ð¡ÑÐ¾Ð´Ð½Ð° ÑÐ»Ð¸ÐºÐ°"/>
          <p:cNvPicPr/>
          <p:nvPr/>
        </p:nvPicPr>
        <p:blipFill>
          <a:blip r:embed="rId1"/>
          <a:stretch/>
        </p:blipFill>
        <p:spPr>
          <a:xfrm>
            <a:off x="179280" y="366840"/>
            <a:ext cx="3762360" cy="55911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</p:pic>
      <p:sp>
        <p:nvSpPr>
          <p:cNvPr id="64" name="Rectangle 3"/>
          <p:cNvSpPr/>
          <p:nvPr/>
        </p:nvSpPr>
        <p:spPr>
          <a:xfrm>
            <a:off x="2987640" y="260280"/>
            <a:ext cx="61707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КАДА ЈЕ ВИЉЕМ ОСВАЈАЧ 1066. ГОДИНЕ ПОСТАО КРАЉ ЕНГЛЕСКЕ, ЕНГЛЕСКА ЈЕ ЗВАНИЧНО ПОСТАЛА ВАЗАЛ ФРАНЦУСКОГ КРАЉА. АЛИ У </a:t>
            </a:r>
            <a:r>
              <a:rPr b="0" lang="sr-Latn-RS" sz="2600" spc="-1" strike="noStrike">
                <a:solidFill>
                  <a:srgbClr val="624120"/>
                </a:solidFill>
                <a:latin typeface="Cambria"/>
              </a:rPr>
              <a:t>XII 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ВЕКУ ВЕЛИКИ ДЕО ЗАПАДНЕ И ЈУЖНЕ ФРАНЦУСКЕ ПРЕЛАЗИ ПОД ВЛАСТ ЕНГЛЕСКЕ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624120"/>
                </a:solidFill>
                <a:latin typeface="Cambria"/>
              </a:rPr>
              <a:t>ФИЛИП </a:t>
            </a:r>
            <a:r>
              <a:rPr b="1" lang="sr-Latn-RS" sz="2600" spc="-1" strike="noStrike">
                <a:solidFill>
                  <a:srgbClr val="624120"/>
                </a:solidFill>
                <a:latin typeface="Cambria"/>
              </a:rPr>
              <a:t>II </a:t>
            </a:r>
            <a:r>
              <a:rPr b="1" lang="sr-RS" sz="2600" spc="-1" strike="noStrike">
                <a:solidFill>
                  <a:srgbClr val="624120"/>
                </a:solidFill>
                <a:latin typeface="Cambria"/>
              </a:rPr>
              <a:t>АВГУСТ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, ФРАНЦУСКИ КРАЉ ПОВРАТИО ЈЕ ВЕЛИКИ ДЕО ПОСЕДА.  ОВО ЈЕ КОД ЕНГЛЕСКИХ ПЛЕМИЋА ИЗАЗВАЛО ПОБУНУ ПА СУ ПРИМОРАЛИ ЕНГЛЕСКОГ КРАЉА </a:t>
            </a:r>
            <a:r>
              <a:rPr b="1" lang="sr-RS" sz="2600" spc="-1" strike="noStrike">
                <a:solidFill>
                  <a:srgbClr val="624120"/>
                </a:solidFill>
                <a:latin typeface="Cambria"/>
              </a:rPr>
              <a:t>ЈОВАНА БЕЗ ЗЕМЉЕ 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ДА </a:t>
            </a:r>
            <a:r>
              <a:rPr b="1" lang="sr-RS" sz="2600" spc="-1" strike="noStrike">
                <a:solidFill>
                  <a:srgbClr val="624120"/>
                </a:solidFill>
                <a:latin typeface="Cambria"/>
              </a:rPr>
              <a:t>1215. ГОДИНЕ 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ИЗДА </a:t>
            </a:r>
            <a:r>
              <a:rPr b="1" lang="sr-RS" sz="2600" spc="-1" strike="noStrike" u="sng">
                <a:solidFill>
                  <a:srgbClr val="c00000"/>
                </a:solidFill>
                <a:uFillTx/>
                <a:latin typeface="Cambria"/>
              </a:rPr>
              <a:t>ВЕЛИКУ ПОВЕЉУ СЛОБОДА</a:t>
            </a:r>
            <a:r>
              <a:rPr b="0" lang="sr-RS" sz="2600" spc="-1" strike="noStrike">
                <a:solidFill>
                  <a:srgbClr val="c00000"/>
                </a:solidFill>
                <a:latin typeface="Cambria"/>
              </a:rPr>
              <a:t> 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КОЈОМ ЈЕ ОГРАНИЧЕНА КРАЉЕВА ВЛАСТ И УВЕДЕН ПАРЛАМЕНТАРИЗА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1268280" y="5958000"/>
            <a:ext cx="158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Cambria"/>
              </a:rPr>
              <a:t>MAGNA CARTA LIBERAT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2" descr="Ð ÐµÐ·ÑÐ»ÑÐ°Ñ ÑÐ»Ð¸ÐºÐ° Ð·Ð° Ð¢ÐÐÐÐÐÐ Ð"/>
          <p:cNvPicPr/>
          <p:nvPr/>
        </p:nvPicPr>
        <p:blipFill>
          <a:blip r:embed="rId2"/>
          <a:stretch/>
        </p:blipFill>
        <p:spPr>
          <a:xfrm>
            <a:off x="684360" y="115920"/>
            <a:ext cx="7632720" cy="68706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17640" y="83628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5400" spc="-1" strike="noStrike">
                <a:solidFill>
                  <a:srgbClr val="624120"/>
                </a:solidFill>
                <a:latin typeface="Cambria"/>
              </a:rPr>
              <a:t>КРСТАШКИ </a:t>
            </a:r>
            <a:br>
              <a:rPr sz="5400"/>
            </a:br>
            <a:r>
              <a:rPr b="1" lang="sr-RS" sz="5400" spc="-1" strike="noStrike">
                <a:solidFill>
                  <a:srgbClr val="624120"/>
                </a:solidFill>
                <a:latin typeface="Cambria"/>
              </a:rPr>
              <a:t>РАТОВ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324000" y="316080"/>
            <a:ext cx="7389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624120"/>
                </a:solidFill>
                <a:latin typeface="Cambria"/>
              </a:rPr>
              <a:t>КРСТАШКИМ РАТОВИМА 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НАЗИВАМО НИЗ ВОЈНИХ ПОХОДА КОЈЕ СУ ОРГАНИЗОВАЛИ ХРИШЋАНИ НА ПОДСТИЦАЈ ПАПЕ ПРОТИВ МУСЛИМАНА (ТУРАКА СЕЛЏУКА) РАДИ ОСЛОБОЂЕЊА СВЕТИХ МЕСТА У ПАЛЕСТИНИ ПОСЕБНО ХРИСТОВОГ ГРОБА У ЈЕРУСАЛИМУ. ТРАЈУ ОД КРАЈА </a:t>
            </a:r>
            <a:r>
              <a:rPr b="0" lang="sr-Latn-RS" sz="2600" spc="-1" strike="noStrike">
                <a:solidFill>
                  <a:srgbClr val="624120"/>
                </a:solidFill>
                <a:latin typeface="Cambria"/>
              </a:rPr>
              <a:t>XI 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ДО ПОЛОВИНЕ </a:t>
            </a:r>
            <a:r>
              <a:rPr b="0" lang="sr-Latn-RS" sz="2600" spc="-1" strike="noStrike">
                <a:solidFill>
                  <a:srgbClr val="624120"/>
                </a:solidFill>
                <a:latin typeface="Cambria"/>
              </a:rPr>
              <a:t>XIII 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ВЕК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324000" y="4662360"/>
            <a:ext cx="69498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НАЗИВ ПОТИЧЕ ОД ЗНАКА КРСТА КОЈИ СУ ВОЈНИЦИ НОСИЛИ НА СВОЈИМ ОДОРАМА, ОБИЧНО ДЕСНОМ РАМЕНУ, ЛЕЂИМА ИЛИ НА ШТИТ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" descr="Ð ÐµÐ·ÑÐ»ÑÐ°Ñ ÑÐ»Ð¸ÐºÐ° Ð·Ð° ÐÐ Ð¡Ð¢ÐÐ¨ÐÐ Ð¨Ð¢ÐÐ¢"/>
          <p:cNvPicPr/>
          <p:nvPr/>
        </p:nvPicPr>
        <p:blipFill>
          <a:blip r:embed="rId1"/>
          <a:srcRect l="27491" t="0" r="29902" b="0"/>
          <a:stretch/>
        </p:blipFill>
        <p:spPr>
          <a:xfrm>
            <a:off x="6912000" y="1617840"/>
            <a:ext cx="2232000" cy="5238720"/>
          </a:xfrm>
          <a:prstGeom prst="rect">
            <a:avLst/>
          </a:prstGeom>
          <a:ln w="0">
            <a:noFill/>
          </a:ln>
        </p:spPr>
      </p:pic>
      <p:sp>
        <p:nvSpPr>
          <p:cNvPr id="71" name="TextBox 5"/>
          <p:cNvSpPr/>
          <p:nvPr/>
        </p:nvSpPr>
        <p:spPr>
          <a:xfrm>
            <a:off x="324000" y="3625920"/>
            <a:ext cx="69498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У ОВОМ ПЕРИОДУ ОРГАНИЗОВАНО ЈЕ ДЕВЕТ (ОСАМ ЗН</a:t>
            </a:r>
            <a:r>
              <a:rPr b="0" lang="sr-Latn-RS" sz="2600" spc="-1" strike="noStrike">
                <a:solidFill>
                  <a:srgbClr val="624120"/>
                </a:solidFill>
                <a:latin typeface="Cambria"/>
              </a:rPr>
              <a:t>A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ЧАЈНИЈИХ) КРСТАШКИХ ПОХОД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Windows User</cp:lastModifiedBy>
  <dcterms:modified xsi:type="dcterms:W3CDTF">2019-07-27T11:11:04Z</dcterms:modified>
  <cp:revision>704</cp:revision>
  <dc:subject/>
  <dc:title>Diapositiva 1</dc:title>
</cp:coreProperties>
</file>